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7CB6-28CA-476F-83D3-B3F7A3DA76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1BA7-0E62-4895-9E02-B4F16225BEB2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379B-0587-430B-91FF-F2ABC1CE9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827CC-AF5D-4E94-B62E-C44D8D7C9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577AD-82FC-4C4B-9CF3-028A4C14E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9F817-0DA6-408A-95EB-456F616F8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BD2FB-B256-464C-AA9E-E23379ED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AD0AC-4ECF-41AE-BBE1-2F105A9D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E1E90-43E6-4F81-AF6C-9A4448C6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97C0F-40F0-47EF-933F-0E98D63D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4DE85-4DBB-4C3C-946B-3CFFDFEA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4A560-DCD3-4F27-9745-D9F60AE0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93519-1846-42C6-BECF-EAE86E2D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AB899-1FE5-4FF4-8A43-5D513C5C8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D22C2-15E3-407E-B377-E2539394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80378-4A19-4676-88CF-9EB87512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1C3C9-7C27-48A7-A213-36D58E0C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97E30-5829-4F8F-B894-466DD783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87717-4625-49B1-8E2A-52039BDB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0BC79C-1EC6-4D32-80C4-83238A1C77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92A2BF-8C69-4DFC-BD58-41E8270611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10F77F-4A0E-4D8B-9CE3-9DFEACBDD2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296FBD-2746-4F5E-BCFC-8F9295FE3E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1A5F88-ECEC-4F42-B9F1-249C411C18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86D92-8FEF-4E3F-8D2C-59BBAD19BB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EFE850-53A6-46BF-902F-6D6884FE77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C9CC98-3AEB-4FCC-8FA3-143D8A0B6A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ED9A1B-8F88-4ACE-AA75-A66365E56A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962188-9D6B-4281-B892-51F402517E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F62F29-5510-44CC-9781-7F5E60EB52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6BAC88-AB1D-410D-8F69-B171EC04E0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B9F1EB-18B3-4814-81C3-A67E60E39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E989-A2F8-45ED-B7F0-170AA587E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6579-E086-423D-B7A8-10D346AEB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C12C1-2D5D-432D-A660-F14B34CF1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5A6D-9D1D-48AA-A8C5-BF10B6A21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2B5E-08C6-4BBD-959B-E8DA61DFF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8DBC-FD89-4555-AD09-10D2C6E10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5217068-8709-4829-99CF-D305C1A79DA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7B81EA6-7DCB-4F7F-8D7B-A1E379E282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60208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F7D4-45AB-493F-82D7-E277C545897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2" descr=""/>
          <p:cNvPicPr/>
          <p:nvPr/>
        </p:nvPicPr>
        <p:blipFill>
          <a:blip r:embed="rId2"/>
          <a:stretch/>
        </p:blipFill>
        <p:spPr>
          <a:xfrm>
            <a:off x="5508720" y="519120"/>
            <a:ext cx="3024000" cy="573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6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7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7C21F60D-BAAC-4D9D-9176-6C1ADF8C25E8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3BFAD722-3592-4F79-8C43-91F01323D7C1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9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09440" y="4565520"/>
            <a:ext cx="903924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If group variances differ but normal distributions in group use Welch’s df adjustm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https://statisticsbyjim.com/anova/welchs-anova-compared-to-classic-one-way-anova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See also Delacre, M., Lakens, D., &amp; Leys, C. (2017)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Why Psychologists Should by Default Use Welch’s t-test Instead of Student’s t-test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70c0"/>
                </a:solidFill>
                <a:latin typeface="Verdana"/>
              </a:rPr>
              <a:t>International Review of Social Psychology</a:t>
            </a:r>
            <a:r>
              <a:rPr b="0" lang="en-GB" sz="1600" spc="-1" strike="noStrike">
                <a:solidFill>
                  <a:srgbClr val="0070c0"/>
                </a:solidFill>
                <a:latin typeface="Verdana"/>
              </a:rPr>
              <a:t>, 30(1), 92–101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tretch/>
        </p:blipFill>
        <p:spPr>
          <a:xfrm>
            <a:off x="507960" y="1995480"/>
            <a:ext cx="8604360" cy="2548080"/>
          </a:xfrm>
          <a:prstGeom prst="rect">
            <a:avLst/>
          </a:prstGeom>
          <a:ln w="0">
            <a:noFill/>
          </a:ln>
        </p:spPr>
      </p:pic>
      <p:sp>
        <p:nvSpPr>
          <p:cNvPr id="193" name="Oval 9"/>
          <p:cNvSpPr/>
          <p:nvPr/>
        </p:nvSpPr>
        <p:spPr>
          <a:xfrm>
            <a:off x="7521480" y="245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Line 10"/>
          <p:cNvSpPr/>
          <p:nvPr/>
        </p:nvSpPr>
        <p:spPr>
          <a:xfrm flipV="1">
            <a:off x="6800760" y="3217680"/>
            <a:ext cx="144144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205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6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217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6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89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95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14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18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322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337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341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7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48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52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7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8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1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90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5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6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7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8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02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5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76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9-11-15T11:53:22Z</dcterms:modified>
  <cp:revision>370</cp:revision>
  <dc:subject/>
  <dc:title>No Slide Title</dc:title>
</cp:coreProperties>
</file>